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125FF-96BC-44CD-94FD-0C1E6B0521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01E25-DE8E-4DD5-8FFC-A9F558EB33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21D12-64FF-4A0F-8BB5-82D775D20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F68B7-9404-4069-8342-0558EA469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47E65-1DEE-4254-94CF-AF5088FAF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42EB9-F87D-49B1-9C0E-D819A632A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DEDF5-6550-4693-893D-672BEF765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BE59D-68DD-49D2-AC59-1F70C6326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F509D-D407-476A-849D-70F75334A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D1011-3702-481B-B6EF-1D8E72DFE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D6126-A4BC-41E3-A514-6BB12C6D4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77349-87C1-4CA9-879B-52749467C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39787-BF9A-4DAD-BA3F-78620119D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063ED-8A0E-4279-B514-3C9B611A5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497EB-89E6-401D-9D78-43216C767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67C24-8F20-45F9-9364-F8271C325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1740E-0F3A-4B08-9E4B-6829CFA16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2CBD3-F654-456E-B036-59BA21B21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878DD-0FAC-428C-8857-913CDB282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53D7E2-8683-4FE4-AF6D-AC291734B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EB4828-8859-4824-B6DC-A7E74117C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54E21D-1CB8-49EE-9305-859746BA9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AFA6BD-1719-4C83-898E-A3CF7C3B9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D32459-EA31-4BFF-9662-6935BA530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40E94-0424-4B93-A68C-14E0DE459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1EDEB0-B236-4F0A-94C9-C7E8116A1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15478C-BD69-4DDF-95FE-A287B7A9B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B60EDD-0924-4405-9280-4FD1E65E7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B56A61-A490-4B9C-B2CD-9D06C51A9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5A3FA1-C6F1-4A43-9075-BF5AA496A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A37F76-1C91-445E-9125-341F0A7F4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FEA345-5D50-47E5-A384-F0E287707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0560DE-5746-4F0D-9970-9F62FDCD9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A04F6D-62C1-4529-B0BC-28F57FB60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715A33-F53D-4A00-B84A-287364067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B1627-B081-48E3-9F1C-77F7798FF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FE96B2-BE24-41C2-9605-81ABB2ADF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710E16-2729-4ABB-B539-462A302D1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24BF42-41C7-4A89-8FA5-4EF082E89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072EF0-555B-473F-B977-9C4518597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B557FB-4E8C-4F17-AD6A-7633EE845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5D0859-B90C-4BDF-9AF3-4827670F5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0E84A2-CE1E-4E00-8565-16E0613C1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7568E9-5E51-45E9-BECE-DC8BCDC1C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50D454-880D-4CF3-868D-5F2517C70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1A2209-A130-46B2-955F-235A5F41C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65EDE-BEA6-465B-AAC1-1BFD34373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EF5A38-C449-4892-B24F-1E5A3DBE6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8D2614-57A4-433C-84BE-CEAC02FDC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183149-FBCE-482B-83C8-9D29F323F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B0C1C2-140A-40F6-8096-B18D3B0B5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7757DC-68F7-45EF-B998-1FE814A82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607898-97D9-4EC8-83F3-076E99DAD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57BB0A-3AA6-467C-9A5E-9AF16BB6B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CB727F-8FFD-4745-8B12-92812455F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F0CE56-B4C7-482A-A042-58789B019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99A0AB-9E9E-4D76-87EE-BAEF40C6E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E0DED-2D23-4267-BDF0-183EF14E0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D2F9D5-56E6-4485-85F1-1B55E37BB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10C147-566D-4347-B7F0-C209AA17F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167953-58D6-467C-9F72-C0EF5843F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670DBA-F372-4794-8CBE-008EB606D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895C65-EB8A-4BBE-9AC4-C4E882DF3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8A54E3-BCBA-4A97-97A0-4A103F74F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1BFC09-2D6F-4EFE-A0DF-B41F54184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3E8A19-CAAA-4FCC-A888-C841D6C7C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6A4618-F6D5-48E5-A349-A3D4F5E86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BF667A-92BC-4BF1-94CD-646B4D41E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800D8-3CE8-4ECC-B2BE-D47C70995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FB8A11-8C29-4A63-AF12-F9FC3FE1B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A3BC6E-2BE7-4B96-864C-B62674903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A56FEB-9739-46F8-987D-B4991708D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F9664E-A09B-47F1-9486-A5086D61C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62ABAF-8E66-4211-9CE4-9DFB8BD76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B447F3-4D41-4DAD-A98A-557988E07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764C0D-7A41-4AF5-9CE7-40BF47B0A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E48406-D9F0-4384-A509-C3068D1E0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DD572B-C3CE-4E11-BFFB-15523E9C2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66051E-B472-41CF-B988-56878F0BB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CA140-966A-48B0-A410-70AD6230D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CB5623-A631-494F-A4B5-F9B4701D8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5B0883-07CE-40C1-BA1A-3C0DA330C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287036-E9F4-481F-88E3-DB04FDD59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AD90FC-8B26-4C1A-925D-1C186B8C8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03DA72-12EA-41FA-901F-67491BBC1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3041A-35DB-4A2D-AC03-D8C44172C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6FF82-4EC7-48D8-923F-1AB4D04AAA56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Oval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Oval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Ov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B2B69-2FCE-4061-94A9-5FAA20695650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Oval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Oval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Oval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0A889-B918-42B4-BF50-8C1CEA510C07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E4EC9-4E6E-4605-A217-2314B587E1A9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8254B-C2DA-4734-8A29-6E8955876DA1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12A68-571D-415E-8C58-E696A2FB07AA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Rectangle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Rectangle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Flowchart: Proces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Flowchart: Proces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00F98-1999-4ED0-B2C8-03FF892F3387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blog.classroomteacher.ca/" TargetMode="Externa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mailto:noralesclara@yahoo.com" TargetMode="Externa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mailto:noralesclara@yahoo.com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980720" y="388584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ara Norales</a:t>
            </a:r>
            <a:br>
              <a:rPr sz="4300"/>
            </a:b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ED 7201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Dr. Sharon A. O’Connor-Petruso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Fall 2011</a:t>
            </a:r>
            <a:br>
              <a:rPr sz="1600"/>
            </a:br>
            <a:endParaRPr b="0" lang="en-US" sz="1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828440" y="533520"/>
            <a:ext cx="67057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302760" indent="-2343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Gill Sans MT"/>
              </a:rPr>
              <a:t>Using Technology to Enhance Literacy of ELL’s</a:t>
            </a:r>
            <a:endParaRPr b="0" lang="en-US" sz="5000" spc="-1" strike="noStrike">
              <a:solidFill>
                <a:srgbClr val="000000"/>
              </a:solidFill>
              <a:latin typeface="Gill Sans MT"/>
            </a:endParaRPr>
          </a:p>
          <a:p>
            <a:pPr marL="30276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Gill Sans MT"/>
            </a:endParaRPr>
          </a:p>
          <a:p>
            <a:pPr marL="30276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Gill Sans MT"/>
            </a:endParaRPr>
          </a:p>
          <a:p>
            <a:pPr marL="30276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Gill Sans MT"/>
            </a:endParaRPr>
          </a:p>
          <a:p>
            <a:pPr marL="30276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Gill Sans MT"/>
            </a:endParaRPr>
          </a:p>
          <a:p>
            <a:pPr marL="30276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Gill Sans MT"/>
            </a:endParaRPr>
          </a:p>
          <a:p>
            <a:pPr marL="302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72314"/>
                </a:solidFill>
                <a:latin typeface="Gill Sans MT"/>
              </a:rPr>
              <a:t>Statement of the Hypothesis</a:t>
            </a:r>
            <a:endParaRPr b="0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5" name="TextBox 2"/>
          <p:cNvSpPr/>
          <p:nvPr/>
        </p:nvSpPr>
        <p:spPr>
          <a:xfrm>
            <a:off x="1143000" y="1676520"/>
            <a:ext cx="8229600" cy="496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fornian FB"/>
              </a:rPr>
              <a:t>HR1: To integrate technology based instruction activities to fifteen sixth grade students, for 45 minutes per day over a four week period. This will increase student’s literacy levels  as measured by test scores in the English Language Arts te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Participant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wo focus group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One group:  receive 45 minutes technology based instruction and activities daily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One group: do not receive technology based instruction and activities daily. 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Instrument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74977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References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440" y="533520"/>
            <a:ext cx="749772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653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Ardeshiri, M., Cohen, Sarah &amp; Cummins, J. (2008). Computer-Supported Scaffolding of Literacy Development. </a:t>
            </a:r>
            <a:r>
              <a:rPr b="0" i="1" lang="en-US" sz="1200" spc="-1" strike="noStrike">
                <a:solidFill>
                  <a:srgbClr val="000000"/>
                </a:solidFill>
                <a:latin typeface="Gill Sans MT"/>
              </a:rPr>
              <a:t>Pedagogies: An International Journal. 4, 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4-21. 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Arslan, R.S., Sahin-Kizil, A. (2010). How can the use of blog software facilitates the writing process of English Language Learners? </a:t>
            </a:r>
            <a:r>
              <a:rPr b="0" i="1" lang="en-US" sz="1200" spc="-1" strike="noStrike">
                <a:solidFill>
                  <a:srgbClr val="000000"/>
                </a:solidFill>
                <a:latin typeface="Gill Sans MT"/>
              </a:rPr>
              <a:t>Computer Assisted Language Learning. Volume 23 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(3), 183-197.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Baturay, M., Daloglu, A., &amp;Yildirim, S. (2009). Effects of Web-based Spaced Repetition on Vocabulary Retention of Foreign Language Learners. </a:t>
            </a:r>
            <a:r>
              <a:rPr b="0" i="1" lang="en-US" sz="1200" spc="-1" strike="noStrike">
                <a:solidFill>
                  <a:srgbClr val="000000"/>
                </a:solidFill>
                <a:latin typeface="Gill Sans MT"/>
              </a:rPr>
              <a:t>Eurasian Journal of Educational Research. 34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, 17-36.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Black, R.W. (2009). English Language Learners, Fan Communities, and 21</a:t>
            </a:r>
            <a:r>
              <a:rPr b="0" lang="en-US" sz="1200" spc="-1" strike="noStrike" baseline="30000">
                <a:solidFill>
                  <a:srgbClr val="000000"/>
                </a:solidFill>
                <a:latin typeface="Gill Sans MT"/>
              </a:rPr>
              <a:t>st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 Century Skills. </a:t>
            </a:r>
            <a:r>
              <a:rPr b="0" i="1" lang="en-US" sz="1200" spc="-1" strike="noStrike">
                <a:solidFill>
                  <a:srgbClr val="000000"/>
                </a:solidFill>
                <a:latin typeface="Gill Sans MT"/>
              </a:rPr>
              <a:t>Journal of Adolescent &amp; Adult Literacy. Volume 52 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(8), 688-697.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Cagiltay, K., Saran, M., &amp; Seferoglu, G. (2009). Mobile Assisted Language Learning: English Pronunciation at Learners’ Fingertips. </a:t>
            </a:r>
            <a:r>
              <a:rPr b="0" i="1" lang="en-US" sz="1200" spc="-1" strike="noStrike">
                <a:solidFill>
                  <a:srgbClr val="000000"/>
                </a:solidFill>
                <a:latin typeface="Gill Sans MT"/>
              </a:rPr>
              <a:t>Eurasian Journal of Educational Research. 34,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97-114.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Cummins, J. (2009). Transformative Multiliteracies Pedagogy: School-base Strategies for Closing the Achievement Gap. </a:t>
            </a:r>
            <a:r>
              <a:rPr b="0" i="1" lang="en-US" sz="1200" spc="-1" strike="noStrike">
                <a:solidFill>
                  <a:srgbClr val="000000"/>
                </a:solidFill>
                <a:latin typeface="Gill Sans MT"/>
              </a:rPr>
              <a:t>Multiple Voices foe Ethnically Diverse Exceptional Learners. Volume 11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(2), 38-56.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Cummins, J. (2011). Literacy Engagement – Fueling Academic Growth for English Learners. </a:t>
            </a:r>
            <a:r>
              <a:rPr b="0" i="1" lang="en-US" sz="1200" spc="-1" strike="noStrike">
                <a:solidFill>
                  <a:srgbClr val="000000"/>
                </a:solidFill>
                <a:latin typeface="Gill Sans MT"/>
              </a:rPr>
              <a:t>The Reading Teacher. Volume 65 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(2), 142-146.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Daud, N. M. &amp; Husin, Z. (2004). Developing critical thinking skills in computer-aided extended reading classes. </a:t>
            </a:r>
            <a:r>
              <a:rPr b="0" i="1" lang="en-US" sz="1200" spc="-1" strike="noStrike">
                <a:solidFill>
                  <a:srgbClr val="000000"/>
                </a:solidFill>
                <a:latin typeface="Gill Sans MT"/>
              </a:rPr>
              <a:t>British Journal of Educational Technology. Volume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Gill Sans MT"/>
              </a:rPr>
              <a:t>35 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(4), 477-48.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Dukes, C. (2005).  Best Practices for Integrating Technology Into English Language Instruction. </a:t>
            </a:r>
            <a:r>
              <a:rPr b="0" i="1" lang="en-US" sz="1200" spc="-1" strike="noStrike">
                <a:solidFill>
                  <a:srgbClr val="000000"/>
                </a:solidFill>
                <a:latin typeface="Gill Sans MT"/>
              </a:rPr>
              <a:t>Seir-Tec News Wire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.  </a:t>
            </a:r>
            <a:r>
              <a:rPr b="0" i="1" lang="en-US" sz="1200" spc="-1" strike="noStrike">
                <a:solidFill>
                  <a:srgbClr val="000000"/>
                </a:solidFill>
                <a:latin typeface="Gill Sans MT"/>
              </a:rPr>
              <a:t>Volume 7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 (6), 3-6.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Fitzgerald, G., Kelly, P, M.K., &amp; Zha, S. (2006). An Investigation of Communicative Competence of ESL Students Using Electronic Disscussion Boards. </a:t>
            </a:r>
            <a:r>
              <a:rPr b="0" i="1" lang="en-US" sz="1200" spc="-1" strike="noStrike">
                <a:solidFill>
                  <a:srgbClr val="000000"/>
                </a:solidFill>
                <a:latin typeface="Gill Sans MT"/>
              </a:rPr>
              <a:t>Journal of Research on Technology in Education. Volume 38 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(3), 349-367.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Foulger, T. S. &amp; Jimenez-Silva, M. (2009). Enhancing the Writing Development of English Language Learners: Teaching Perceptions of Common Technology in Project-Based Learning. </a:t>
            </a:r>
            <a:r>
              <a:rPr b="0" i="1" lang="en-US" sz="1200" spc="-1" strike="noStrike">
                <a:solidFill>
                  <a:srgbClr val="000000"/>
                </a:solidFill>
                <a:latin typeface="Gill Sans MT"/>
              </a:rPr>
              <a:t>Journal of Research in Childhood Education. Volume 22 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(2), 109-124.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Granoff, S. &amp; Whiting, J. (2010) The Effects of Multimedia Input on Comprehension of a Short Story. </a:t>
            </a:r>
            <a:r>
              <a:rPr b="0" i="1" lang="en-US" sz="1200" spc="-1" strike="noStrike">
                <a:solidFill>
                  <a:srgbClr val="000000"/>
                </a:solidFill>
                <a:latin typeface="Gill Sans MT"/>
              </a:rPr>
              <a:t>TESL-EJ: Teaching English as a Second Language or Foreign Language. Volume 14 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(2), 1-10.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Green, Timothy. (2005) Using Technology to Help English Language Students Develop Language Skills: A Home and School Connection. </a:t>
            </a:r>
            <a:r>
              <a:rPr b="0" i="1" lang="en-US" sz="1200" spc="-1" strike="noStrike">
                <a:solidFill>
                  <a:srgbClr val="000000"/>
                </a:solidFill>
                <a:latin typeface="Gill Sans MT"/>
              </a:rPr>
              <a:t>Multicultural Education. Winter 2005, 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56-59.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Higgins, S., Smith, H.J., Wall, K. &amp; Miller, J. (2005). Interactive White Boards: boon or bandwagon? A critical review of the literature. </a:t>
            </a:r>
            <a:r>
              <a:rPr b="0" i="1" lang="en-US" sz="1200" spc="-1" strike="noStrike">
                <a:solidFill>
                  <a:srgbClr val="000000"/>
                </a:solidFill>
                <a:latin typeface="Gill Sans MT"/>
              </a:rPr>
              <a:t>Journal of Computer Assisted Learning. Volume 21, 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91-101.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Kuroneko, (2008). The Basics: Chalkboards, Flipcharts, Whiteboards, and Overhead Projectors. </a:t>
            </a:r>
            <a:r>
              <a:rPr b="0" lang="en-US" sz="1200" spc="-1" strike="noStrike" u="sng">
                <a:solidFill>
                  <a:srgbClr val="8dc765"/>
                </a:solidFill>
                <a:uFillTx/>
                <a:latin typeface="Gill Sans MT"/>
                <a:hlinkClick r:id="rId1"/>
              </a:rPr>
              <a:t>blog.classroomteacher.ca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Lacina, J. (2004/2005). Promoting Language Acquisitions: Technology and English Language Learners. </a:t>
            </a:r>
            <a:r>
              <a:rPr b="0" i="1" lang="en-US" sz="1200" spc="-1" strike="noStrike">
                <a:solidFill>
                  <a:srgbClr val="000000"/>
                </a:solidFill>
                <a:latin typeface="Gill Sans MT"/>
              </a:rPr>
              <a:t>Childhood Education. Volume 81 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(2), 113-115.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References (continue)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3" name="TextBox 3"/>
          <p:cNvSpPr/>
          <p:nvPr/>
        </p:nvSpPr>
        <p:spPr>
          <a:xfrm>
            <a:off x="609480" y="838080"/>
            <a:ext cx="8534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440" y="533520"/>
            <a:ext cx="749772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653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Li, J. (2010). Learning vocabulary via computer-assisted scaffolding for text processing. </a:t>
            </a:r>
            <a:r>
              <a:rPr b="0" i="1" lang="en-US" sz="1600" spc="-1" strike="noStrike">
                <a:solidFill>
                  <a:srgbClr val="000000"/>
                </a:solidFill>
                <a:latin typeface="Gill Sans MT"/>
              </a:rPr>
              <a:t>Computer Assisted Language Learning. Volume 23 </a:t>
            </a: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(3), 253-275.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Lopez, Omar S. (2009). The Digital Learning Classroom: Improving English Language Learners’ academic Success in mathematics and reading using interactive whiteboard technology. </a:t>
            </a:r>
            <a:r>
              <a:rPr b="0" i="1" lang="en-US" sz="1600" spc="-1" strike="noStrike">
                <a:solidFill>
                  <a:srgbClr val="000000"/>
                </a:solidFill>
                <a:latin typeface="Gill Sans MT"/>
              </a:rPr>
              <a:t>Computers &amp; Education. Volume 54, </a:t>
            </a: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901-915.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Padron, Y. N. &amp; Waxman, H.C. (1996). Improving the Teaching and Learning of English Language Learners through Instructional Technology</a:t>
            </a:r>
            <a:r>
              <a:rPr b="0" i="1" lang="en-US" sz="1600" spc="-1" strike="noStrike">
                <a:solidFill>
                  <a:srgbClr val="000000"/>
                </a:solidFill>
                <a:latin typeface="Gill Sans MT"/>
              </a:rPr>
              <a:t>. International Journal of Instructional Media. Volume 23 </a:t>
            </a: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(4), 341-354</a:t>
            </a:r>
            <a:r>
              <a:rPr b="0" i="1" lang="en-US" sz="1600" spc="-1" strike="noStrike">
                <a:solidFill>
                  <a:srgbClr val="000000"/>
                </a:solidFill>
                <a:latin typeface="Gill Sans MT"/>
              </a:rPr>
              <a:t>.</a:t>
            </a: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Ranalli, J. (2008). Learning English with The Sims: exploiting authentic computer  simulation games for L2 learning. </a:t>
            </a:r>
            <a:r>
              <a:rPr b="0" i="1" lang="en-US" sz="1600" spc="-1" strike="noStrike">
                <a:solidFill>
                  <a:srgbClr val="000000"/>
                </a:solidFill>
                <a:latin typeface="Gill Sans MT"/>
              </a:rPr>
              <a:t>Computer Assisted Language Learning. Volume 21 </a:t>
            </a: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(5), 441-455.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Rance-Roney, J. (2010). Jump Starting Language and Schema for English Language Learners: Teacher-Composed Digital Jumpstarts for Academic Reading. </a:t>
            </a:r>
            <a:r>
              <a:rPr b="0" i="1" lang="en-US" sz="1600" spc="-1" strike="noStrike">
                <a:solidFill>
                  <a:srgbClr val="000000"/>
                </a:solidFill>
                <a:latin typeface="Gill Sans MT"/>
              </a:rPr>
              <a:t>Journal of Adolescent &amp; Adult Literacy. Volume 53 </a:t>
            </a: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(5), 386-395.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Rubinstein-Avila, E., Sox, Amanda. (2009). WebQuests for English Language Learners: Essential Elements for Design. </a:t>
            </a:r>
            <a:r>
              <a:rPr b="0" i="1" lang="en-US" sz="1600" spc="-1" strike="noStrike">
                <a:solidFill>
                  <a:srgbClr val="000000"/>
                </a:solidFill>
                <a:latin typeface="Gill Sans MT"/>
              </a:rPr>
              <a:t>Journal of Adolescents and Adult Literacy. 53 </a:t>
            </a: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(1), 38-48.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Snyder, I. (1999). Literacy and technology studies: past, present, future.  </a:t>
            </a:r>
            <a:r>
              <a:rPr b="0" i="1" lang="en-US" sz="1600" spc="-1" strike="noStrike">
                <a:solidFill>
                  <a:srgbClr val="000000"/>
                </a:solidFill>
                <a:latin typeface="Gill Sans MT"/>
              </a:rPr>
              <a:t>ACER Research Conference October 1999: Improving Literacy Learning.</a:t>
            </a: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 1-16.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Son, J. (2007). Learners Experiences in Web-based Language Learning. </a:t>
            </a:r>
            <a:r>
              <a:rPr b="0" i="1" lang="en-US" sz="1600" spc="-1" strike="noStrike">
                <a:solidFill>
                  <a:srgbClr val="000000"/>
                </a:solidFill>
                <a:latin typeface="Gill Sans MT"/>
              </a:rPr>
              <a:t>Computer Assisted Language Learning. Volume 20</a:t>
            </a: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(1), 21-36.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Ware, P. (2008). Language Learners and Multimedia Literacy In and After School. </a:t>
            </a:r>
            <a:r>
              <a:rPr b="0" i="1" lang="en-US" sz="1600" spc="-1" strike="noStrike">
                <a:solidFill>
                  <a:srgbClr val="000000"/>
                </a:solidFill>
                <a:latin typeface="Gill Sans MT"/>
              </a:rPr>
              <a:t>Pedagogies: An International Journal. 3</a:t>
            </a: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, 37-51. 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Warschauer, M. (2007). Laptops and Literacy: Learning in the Wireless Classroom. </a:t>
            </a:r>
            <a:r>
              <a:rPr b="0" i="1" lang="en-US" sz="1600" spc="-1" strike="noStrike">
                <a:solidFill>
                  <a:srgbClr val="000000"/>
                </a:solidFill>
                <a:latin typeface="Gill Sans MT"/>
              </a:rPr>
              <a:t>Journal of Literacy and Technology. Volume 8 </a:t>
            </a: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(1), 49-53.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White, E.L. &amp; Gillard, S. (2011). Technology-Based Literacy Instruction for English Language Learners. </a:t>
            </a:r>
            <a:r>
              <a:rPr b="0" i="1" lang="en-US" sz="1400" spc="-1" strike="noStrike">
                <a:solidFill>
                  <a:srgbClr val="000000"/>
                </a:solidFill>
                <a:latin typeface="Gill Sans MT"/>
              </a:rPr>
              <a:t>Journal of College Teaching &amp; Learning. Volume</a:t>
            </a: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Gill Sans MT"/>
              </a:rPr>
              <a:t>8</a:t>
            </a: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(6), 1-5.  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447560" y="-36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Appendix 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066320" y="1066680"/>
            <a:ext cx="7867800" cy="55627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 fontScale="85000"/>
          </a:bodyPr>
          <a:p>
            <a:pPr marL="30996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ill Sans MT"/>
              </a:rPr>
              <a:t>Consent Form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309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Dear Parent/Guardian, 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309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I am currently a graduate student at Brooklyn College. This semester I am in the process of completing an action research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309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project as part of the requirements of my Research I and II course. I would like for your child to be part of a study I will be 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309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conducting. This study will not affect my duties as a teaching professional but rather the information gather will be useful in 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309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helping me understand how the use of technology could increase students' literacy skills.  If you decide to allow your child to 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309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participate, he/she may be required to complete questionnaires, demographic surveys, and achievement measurements.   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309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Any information obtained in connection with this study will remain confidential and will not be disclosed. If you have a 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309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questions or concerns, please feel free to contact me at 347-893-2590 or </a:t>
            </a:r>
            <a:r>
              <a:rPr b="0" lang="en-US" sz="1200" spc="-1" strike="noStrike" u="sng">
                <a:solidFill>
                  <a:srgbClr val="8dc765"/>
                </a:solidFill>
                <a:uFillTx/>
                <a:latin typeface="Gill Sans MT"/>
                <a:hlinkClick r:id="rId1"/>
              </a:rPr>
              <a:t>noralesclara@yahoo.com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. Thank you in advance for 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309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your cooperation and support.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309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 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Sincerely,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309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309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Clara Norales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309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  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309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I (parent/guardian) have read and understand the information provided above. I willingly agree to allow my child to participate in this research project. 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309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309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309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__________________________________                                 _____________________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309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Parent/ Guardian signature                                                             Date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309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Gill Sans MT"/>
            </a:endParaRPr>
          </a:p>
          <a:p>
            <a:pPr marL="309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Gill Sans MT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Gill Sans MT"/>
            </a:endParaRPr>
          </a:p>
          <a:p>
            <a:pPr marL="309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Appendix B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7848720" cy="5638680"/>
          </a:xfrm>
          <a:prstGeom prst="rect">
            <a:avLst/>
          </a:prstGeom>
          <a:solidFill>
            <a:srgbClr val="f2f2f2"/>
          </a:solidFill>
          <a:ln w="9360">
            <a:solidFill>
              <a:srgbClr val="f2f2f2"/>
            </a:solidFill>
            <a:miter/>
          </a:ln>
        </p:spPr>
        <p:txBody>
          <a:bodyPr anchor="t">
            <a:normAutofit fontScale="86000"/>
          </a:bodyPr>
          <a:p>
            <a:pPr marL="3139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ill Sans MT"/>
              </a:rPr>
              <a:t>Consent Form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313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Dear Principal ____________________,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313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313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I am currently a graduate student at Brooklyn College. This semester I am in the process of completing an action research 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313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project as part of the requirements of my Research course. I would like for my students to be part of a study I will be 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313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conducting. This study will not affect my duties as a teaching professional but rather the information gather will be useful 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313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in helping me understand how the use of technology could increase students' literacy skills. If parents decide to allow their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313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child  to participate, he/she may be required to complete questionnaires, demographic surveys, and achievement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313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measurements.   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313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313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Any information obtained in connection with this study will remain confidential and will not be disclosed. If you have a 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313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questions or concerns, please feel free to contact me at 347-893-2590 or </a:t>
            </a:r>
            <a:r>
              <a:rPr b="0" lang="en-US" sz="1200" spc="-1" strike="noStrike" u="sng">
                <a:solidFill>
                  <a:srgbClr val="8dc765"/>
                </a:solidFill>
                <a:uFillTx/>
                <a:latin typeface="Gill Sans MT"/>
                <a:hlinkClick r:id="rId1"/>
              </a:rPr>
              <a:t>noralesclara@yahoo.com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. Thank you in advance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313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for your cooperation and support. 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313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Sincerely,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313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313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Clara Norales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313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313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I _____________________(principal) have read and understand the information provided above. I agree to allow Clara Norales to complete her action research project. 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313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Gill Sans MT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Gill Sans MT"/>
            </a:endParaRPr>
          </a:p>
          <a:p>
            <a:pPr marL="313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Gill Sans MT"/>
              </a:rPr>
              <a:t>__________________________________                                 _____________________</a:t>
            </a:r>
            <a:endParaRPr b="0" lang="en-US" sz="1100" spc="-1" strike="noStrike">
              <a:solidFill>
                <a:srgbClr val="000000"/>
              </a:solidFill>
              <a:latin typeface="Gill Sans MT"/>
            </a:endParaRPr>
          </a:p>
          <a:p>
            <a:pPr marL="313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Gill Sans MT"/>
              </a:rPr>
              <a:t>                  </a:t>
            </a:r>
            <a:r>
              <a:rPr b="0" lang="en-US" sz="1100" spc="-1" strike="noStrike">
                <a:solidFill>
                  <a:srgbClr val="000000"/>
                </a:solidFill>
                <a:latin typeface="Gill Sans MT"/>
              </a:rPr>
              <a:t>Principal signature                                                                       Date</a:t>
            </a:r>
            <a:endParaRPr b="0" lang="en-US" sz="1100" spc="-1" strike="noStrike">
              <a:solidFill>
                <a:srgbClr val="000000"/>
              </a:solidFill>
              <a:latin typeface="Gill Sans MT"/>
            </a:endParaRPr>
          </a:p>
          <a:p>
            <a:pPr marL="313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13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03280" y="836640"/>
            <a:ext cx="7467840" cy="70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2314"/>
                </a:solidFill>
                <a:latin typeface="Gill Sans MT"/>
              </a:rPr>
              <a:t>Table of Content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572314"/>
                </a:solidFill>
                <a:latin typeface="Gill Sans MT"/>
              </a:rPr>
              <a:t>-Introduction</a:t>
            </a:r>
            <a:br>
              <a:rPr sz="3600"/>
            </a:br>
            <a:r>
              <a:rPr b="0" lang="en-US" sz="3600" spc="-1" strike="noStrike">
                <a:solidFill>
                  <a:srgbClr val="572314"/>
                </a:solidFill>
                <a:latin typeface="Gill Sans MT"/>
              </a:rPr>
              <a:t>-Statement of the Problem (Slide 3)</a:t>
            </a:r>
            <a:br>
              <a:rPr sz="3600"/>
            </a:br>
            <a:r>
              <a:rPr b="0" lang="en-US" sz="3600" spc="-1" strike="noStrike">
                <a:solidFill>
                  <a:srgbClr val="572314"/>
                </a:solidFill>
                <a:latin typeface="Gill Sans MT"/>
              </a:rPr>
              <a:t>-Supporting Theorist (Slide 4)</a:t>
            </a:r>
            <a:br>
              <a:rPr sz="3600"/>
            </a:br>
            <a:r>
              <a:rPr b="0" lang="en-US" sz="3600" spc="-1" strike="noStrike">
                <a:solidFill>
                  <a:srgbClr val="572314"/>
                </a:solidFill>
                <a:latin typeface="Gill Sans MT"/>
              </a:rPr>
              <a:t>-Pros (Slide 5-6)</a:t>
            </a:r>
            <a:br>
              <a:rPr sz="3600"/>
            </a:br>
            <a:r>
              <a:rPr b="0" lang="en-US" sz="3600" spc="-1" strike="noStrike">
                <a:solidFill>
                  <a:srgbClr val="572314"/>
                </a:solidFill>
                <a:latin typeface="Gill Sans MT"/>
              </a:rPr>
              <a:t>-Cons (Slide 7)</a:t>
            </a:r>
            <a:br>
              <a:rPr sz="3600"/>
            </a:br>
            <a:r>
              <a:rPr b="0" lang="en-US" sz="3600" spc="-1" strike="noStrike">
                <a:solidFill>
                  <a:srgbClr val="572314"/>
                </a:solidFill>
                <a:latin typeface="Gill Sans MT"/>
              </a:rPr>
              <a:t>-Instructional Strategies (Slide 8-9)</a:t>
            </a:r>
            <a:br>
              <a:rPr sz="3600"/>
            </a:br>
            <a:r>
              <a:rPr b="0" lang="en-US" sz="3600" spc="-1" strike="noStrike">
                <a:solidFill>
                  <a:srgbClr val="572314"/>
                </a:solidFill>
                <a:latin typeface="Gill Sans MT"/>
              </a:rPr>
              <a:t>- Statement of the Hypothesis </a:t>
            </a: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(Slide 10)</a:t>
            </a:r>
            <a:br>
              <a:rPr sz="3600"/>
            </a:br>
            <a:r>
              <a:rPr b="0" lang="en-US" sz="3600" spc="-1" strike="noStrike">
                <a:solidFill>
                  <a:srgbClr val="572314"/>
                </a:solidFill>
                <a:latin typeface="Gill Sans MT"/>
              </a:rPr>
              <a:t>-Appendix (ces) (Slide 11-12)</a:t>
            </a:r>
            <a:br>
              <a:rPr sz="3600"/>
            </a:br>
            <a:r>
              <a:rPr b="0" lang="en-US" sz="3600" spc="-1" strike="noStrike">
                <a:solidFill>
                  <a:srgbClr val="572314"/>
                </a:solidFill>
                <a:latin typeface="Gill Sans MT"/>
              </a:rPr>
              <a:t>-References (Slide 13-14)</a:t>
            </a:r>
            <a:br>
              <a:rPr sz="3600"/>
            </a:br>
            <a:r>
              <a:rPr b="0" lang="en-US" sz="3600" spc="-1" strike="noStrike">
                <a:solidFill>
                  <a:srgbClr val="572314"/>
                </a:solidFill>
                <a:latin typeface="Gill Sans MT"/>
              </a:rPr>
              <a:t> </a:t>
            </a:r>
            <a:br>
              <a:rPr sz="3600"/>
            </a:b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91404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572314"/>
                </a:solidFill>
                <a:latin typeface="Gill Sans MT"/>
              </a:rPr>
              <a:t>Statement of the Problem</a:t>
            </a: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43000" y="152388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fornian FB"/>
              </a:rPr>
              <a:t>* ELL’s are having a hard time when it comes to learning the English language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fornian FB"/>
              </a:rPr>
              <a:t>* The computer is an excellent resource for giving students the chance to practice English skills without worrying about the response of other classmates or even the teacher. (Dukes, 2005). 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fornian F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fornian FB"/>
              </a:rPr>
              <a:t>* Technology can also improve students’ motivation to learn (Butler-Pascoe,1997)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72314"/>
                </a:solidFill>
                <a:latin typeface="Gill Sans MT"/>
              </a:rPr>
              <a:t>Supporting Theorist</a:t>
            </a: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6295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35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fornian FB"/>
              </a:rPr>
              <a:t>*The World Wide Web has great potential for providing ELL’s the visual and aural stimulation to render new concepts more comprehensible (Cummings, 2009)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fornian FB"/>
              </a:rPr>
              <a:t>*According to Vygotsky’s (1978) sociocultural theory, learning is facilitated through interaction with the social environment (interpersonal learning) rather than intrapersonal learning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82160" y="152280"/>
            <a:ext cx="8534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72314"/>
                </a:solidFill>
                <a:latin typeface="Gill Sans MT"/>
              </a:rPr>
              <a:t>Review of Related Literature</a:t>
            </a:r>
            <a:endParaRPr b="0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3" name="TextBox 2"/>
          <p:cNvSpPr/>
          <p:nvPr/>
        </p:nvSpPr>
        <p:spPr>
          <a:xfrm>
            <a:off x="685800" y="2514600"/>
            <a:ext cx="8001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Box 3"/>
          <p:cNvSpPr/>
          <p:nvPr/>
        </p:nvSpPr>
        <p:spPr>
          <a:xfrm>
            <a:off x="152280" y="685800"/>
            <a:ext cx="8534520" cy="1094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Pr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fornian FB"/>
              </a:rPr>
              <a:t>Using technology with English Language Learners (ELL) enables students to construct meaning in a digital environment (Healey &amp; Klinghammer, 2002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fornian FB"/>
              </a:rPr>
              <a:t>Multimedia technology can be specially helpful for ELL’s because it can facilitate auditory skill development by intergrading visual representation with sound and animation (Bermudez &amp; Palubo, 1994; Mielke &amp; Flores, 1992-93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fornian FB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Californian FB"/>
              </a:rPr>
              <a:t>Computers allows students to become active learners in a one to one environment. Computers can incorporate various learning strategies as well as accommodate a variety of learning styles (Green, 2005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72314"/>
                </a:solidFill>
                <a:latin typeface="Gill Sans MT"/>
              </a:rPr>
              <a:t>Review of Related Literature (continue)</a:t>
            </a:r>
            <a:endParaRPr b="0" lang="en-US" sz="2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6" name="TextBox 2"/>
          <p:cNvSpPr/>
          <p:nvPr/>
        </p:nvSpPr>
        <p:spPr>
          <a:xfrm>
            <a:off x="457200" y="1143000"/>
            <a:ext cx="8305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Box 3"/>
          <p:cNvSpPr/>
          <p:nvPr/>
        </p:nvSpPr>
        <p:spPr>
          <a:xfrm>
            <a:off x="762120" y="914400"/>
            <a:ext cx="853416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fornian FB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fornian FB"/>
              </a:rPr>
              <a:t>Computers allows students to become active learners in a one to one environment. Computers can incorporate various learning strategies as well as accommodate a variety of learning styles (Green, 2005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fornian FB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fornian FB"/>
              </a:rPr>
              <a:t>Computers can  also aide in vocabulary development as well as verbal language development (Green, 2005)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447560" y="75960"/>
            <a:ext cx="7497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72314"/>
                </a:solidFill>
                <a:latin typeface="Gill Sans MT"/>
              </a:rPr>
              <a:t>Review of Related Literature (continue)</a:t>
            </a:r>
            <a:endParaRPr b="0" lang="en-US" sz="2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1142640" y="837720"/>
            <a:ext cx="7497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313920" indent="-2430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Cons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13920" indent="-2430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fornian FB"/>
              </a:rPr>
              <a:t>Technical Difficulties: Technology doesn’t always work. Computers crash, hardware fails, bulbs burn out…all when you least expect it. (Kuroneco, 2008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13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13920" indent="-2430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fornian FB"/>
              </a:rPr>
              <a:t>In schools with access to technology, the computers most frequently remained underused or figuratively in the closet (Ware, 2008)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13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13920" indent="-2430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fornian FB"/>
              </a:rPr>
              <a:t>Teachers and pupils needs training in order to use the technology to its full potential (Higgins, Smith, Wall, &amp; Miller, 2005).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13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fornian FB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 marL="313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13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Instructional Strategi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fornian FB"/>
              </a:rPr>
              <a:t>WebQuest are authentic Web-based environment that support inquiry learning (Lacina, 2004/2005)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fornian FB"/>
              </a:rPr>
              <a:t>WebQuest are Web-based interdisciplinary learning units that foster collaboration problem solving as students work on task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434960" y="-360"/>
            <a:ext cx="7499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72314"/>
                </a:solidFill>
                <a:latin typeface="Gill Sans MT"/>
              </a:rPr>
              <a:t>Instructional Strategies (continue)</a:t>
            </a:r>
            <a:endParaRPr b="0" lang="en-US" sz="2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447560" y="761760"/>
            <a:ext cx="7499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501120" indent="-4320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fornian FB"/>
              </a:rPr>
              <a:t>Interactive Whiteboards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01120" indent="-4320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alifornian FB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fornian FB"/>
              </a:rPr>
              <a:t>Students are motivated in lessons with IWB because of ‘the high level of interaction – students enjoy interacting physically with the board, manipulating text and images’ (Higgins et al, 2005)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01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01120" indent="-4320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alifornian FB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fornian FB"/>
              </a:rPr>
              <a:t>IWB technology could foster performance parity in academic achievement between ELL and regular students (Lopez, 2009)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01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9T02:39:42Z</dcterms:created>
  <dc:creator>Administrator</dc:creator>
  <dc:description/>
  <dc:language>en-US</dc:language>
  <cp:lastModifiedBy>Administrator</cp:lastModifiedBy>
  <dcterms:modified xsi:type="dcterms:W3CDTF">2011-12-12T23:05:02Z</dcterms:modified>
  <cp:revision>47</cp:revision>
  <dc:subject/>
  <dc:title>Clara Norales ED 7201T Dr. Sharon A. O’Connor-Petruso Fall 2011 </dc:title>
</cp:coreProperties>
</file>